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822320" y="685440"/>
            <a:ext cx="3213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99F-0590-4128-B60E-7617F2EA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BBC-875D-468B-B71F-BABD8308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822320" y="685800"/>
            <a:ext cx="321336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2D2-8501-46E7-AFEB-E6611BA5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01F-4B5F-4B47-83CD-C5E3F8A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F4D-AE4C-4BD4-AFBB-0D65EE5C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FAA-6C9A-43D8-B3D5-901BB44D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F94-227A-43D0-A656-10CFBBB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31A-AB82-4DA5-9831-403FD5C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F47-4AD4-42EB-9ACE-813216C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71D-30FB-472B-B4F3-41A2200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650520"/>
            <a:ext cx="582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B88-E64B-4EF2-9332-1E697FF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DE8-3A5F-4503-91F2-DBAE6DF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C4-7934-420E-B220-1797F03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F58-0286-44B1-A654-809A946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664320"/>
            <a:ext cx="1428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6664320"/>
            <a:ext cx="2171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6664320"/>
            <a:ext cx="1428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508-8D4A-4FC4-A855-BBAE69E2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25560" y="165240"/>
          <a:ext cx="6883560" cy="71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65240"/>
                    <a:ext cx="688356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7"/>
          <p:cNvSpPr/>
          <p:nvPr/>
        </p:nvSpPr>
        <p:spPr>
          <a:xfrm>
            <a:off x="5261760" y="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992880" y="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Sch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1055520" y="457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4980600" y="3808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d /t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3886560" y="457200"/>
            <a:ext cx="80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56448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616680" y="182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540360" y="22096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616320" y="25146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533520" y="289548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40000" y="3276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045680" y="15238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4114800" y="1828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046760" y="22096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1"/>
          <p:cNvSpPr/>
          <p:nvPr/>
        </p:nvSpPr>
        <p:spPr>
          <a:xfrm>
            <a:off x="4121640" y="2590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4045680" y="2895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57200" y="42670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s mixed up the numbers and the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548640" y="495288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mom and dad kissed me before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543600" y="53341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fo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21840" y="56386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kicked Luke Skywalker into the pit?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09480" y="6019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0"/>
          <p:cNvSpPr/>
          <p:nvPr/>
        </p:nvSpPr>
        <p:spPr>
          <a:xfrm>
            <a:off x="611280" y="63244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3888360" y="0"/>
            <a:ext cx="95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685800" y="4724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762120" y="4724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533520" y="464832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4114800" y="32767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 Advan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figh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9:55Z</dcterms:created>
  <dc:creator/>
  <dc:description/>
  <dc:language>en-US</dc:language>
  <cp:lastModifiedBy>DOC23 MacBook Scholl</cp:lastModifiedBy>
  <cp:lastPrinted>2010-03-09T18:46:46Z</cp:lastPrinted>
  <dcterms:modified xsi:type="dcterms:W3CDTF">2011-01-05T18:13:22Z</dcterms:modified>
  <cp:revision>186</cp:revision>
  <dc:subject/>
  <dc:title>PowerPoint Presentation</dc:title>
</cp:coreProperties>
</file>